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9FC-4D38-4D80-8CDA-B46B9EEF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84480"/>
            <a:ext cx="822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AD5-2B8F-451E-92AA-B7B6D9B4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844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844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C7B-8BF6-4FBD-BBAE-99F3E213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84480"/>
            <a:ext cx="264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84480"/>
            <a:ext cx="264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84480"/>
            <a:ext cx="264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2C0-5098-4CDD-92CD-DC41C48E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96EE-AB81-45D0-8E7B-8FF2DD34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9131-F4E6-460F-8117-FE18562E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31FB-016E-41CA-A166-CDA3A086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B435-E947-4504-BB73-C528C6E9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5DC3-729B-4703-9DF5-70CA41A4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6A8A-C60E-4934-8380-958BE747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844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465E-DFBE-470F-B420-7947C52B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716-D6FA-4C8B-9318-1324F5B8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844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BEB6-3DFB-47D4-923B-B62DFB53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84480"/>
            <a:ext cx="822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3CEE-F6AF-4EE8-A8EA-E135E694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84480"/>
            <a:ext cx="822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78EC-C383-41DF-8F93-7B29287C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844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844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1174-F98E-48A0-B868-E1BCF385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84480"/>
            <a:ext cx="264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84480"/>
            <a:ext cx="264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84480"/>
            <a:ext cx="264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1D51-B0B1-4BF8-BA8F-D0EE9D65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386-1E86-49C0-BF37-01ACED30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78E-A991-4913-9567-02AF33B5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C51-82B4-4BB1-8E8D-404778C9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F41-02E0-4EB7-B1AF-C5172BCB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844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81B-96FB-4561-9E14-7E89C4CA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844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F88-1EE4-4C19-88B4-6250F8FA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84480"/>
            <a:ext cx="822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085-0DE3-40D2-8508-8728A007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7252-3285-41C1-A949-A889F653B2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PPT模版55"/>
          <p:cNvPicPr/>
          <p:nvPr/>
        </p:nvPicPr>
        <p:blipFill>
          <a:blip r:embed="rId2"/>
          <a:srcRect l="0" t="19790" r="0" b="77087"/>
          <a:stretch/>
        </p:blipFill>
        <p:spPr>
          <a:xfrm>
            <a:off x="0" y="6572160"/>
            <a:ext cx="9144000" cy="214560"/>
          </a:xfrm>
          <a:prstGeom prst="rect">
            <a:avLst/>
          </a:prstGeom>
          <a:ln w="0">
            <a:noFill/>
          </a:ln>
        </p:spPr>
      </p:pic>
      <p:pic>
        <p:nvPicPr>
          <p:cNvPr id="6" name="图片 8" descr="图片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PPT模版55"/>
          <p:cNvPicPr/>
          <p:nvPr/>
        </p:nvPicPr>
        <p:blipFill>
          <a:blip r:embed="rId2"/>
          <a:srcRect l="0" t="19790" r="0" b="77087"/>
          <a:stretch/>
        </p:blipFill>
        <p:spPr>
          <a:xfrm>
            <a:off x="0" y="6572160"/>
            <a:ext cx="9144000" cy="2145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8" descr="图片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5" name="TextBox 8"/>
          <p:cNvSpPr/>
          <p:nvPr/>
        </p:nvSpPr>
        <p:spPr>
          <a:xfrm>
            <a:off x="0" y="6488280"/>
            <a:ext cx="91440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0" descr="图片1副本.jpg"/>
          <p:cNvPicPr/>
          <p:nvPr/>
        </p:nvPicPr>
        <p:blipFill>
          <a:blip r:embed="rId4"/>
          <a:stretch/>
        </p:blipFill>
        <p:spPr>
          <a:xfrm>
            <a:off x="0" y="0"/>
            <a:ext cx="9144000" cy="4078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741E-757A-4765-809E-756441AEA9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789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文化传媒学院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届本科毕业设计（作品）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515736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张李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零一四年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 X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2080"/>
            <a:ext cx="77724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0:38:50Z</dcterms:created>
  <dc:creator>zhujering</dc:creator>
  <dc:description/>
  <dc:language>en-US</dc:language>
  <cp:lastModifiedBy>thinkcenter</cp:lastModifiedBy>
  <dcterms:modified xsi:type="dcterms:W3CDTF">2013-12-03T09:15:05Z</dcterms:modified>
  <cp:revision>15</cp:revision>
  <dc:subject/>
  <dc:title>幻灯片 1</dc:title>
</cp:coreProperties>
</file>